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01F06-1AFA-4BCF-ABA4-F9E67B512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126A1-5062-44FB-A3DC-015BB808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F4FF6-DB59-4BC9-8314-56B3CC493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BF32-664F-4A17-9C98-DABE42013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71340-1CEC-4C1C-B288-001FBB34D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7455C-E593-4E22-862E-62A4623AF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651FB-BC90-402D-A819-3A9A6FBBB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430A7-D707-4A0D-8E5D-EEA74877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35808-3FE4-48C0-ADDD-458A5C0B1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ED35C-4BA0-4BA0-B0D0-34619E370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695E8-FACB-48FD-A4A2-4CD766292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97D7-707D-4A88-96BB-E816390EF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8B93-8C0A-4A32-B2DC-669BCA2AF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5836-4318-49A1-B58E-8EAC549D9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ED8A6-22DD-425A-A833-B802B1F1B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1B01E-A616-43DE-8742-3B6239848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FF2EE-0953-4FFE-A3C3-113D4686F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793D-387B-4F36-879B-F28F740E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1BA4-CB8E-4DDB-BBF9-24871E9D5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A4A87-E9D1-4A0A-96F5-48329A8A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77AD-8F30-4364-AF6C-E6F3D8E76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8E6E-915A-4791-9ECC-E0153F6EE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1791-79FE-441B-9F36-7FBB68C5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ED71-DCAD-464D-9F2C-5F9D8234D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F33F-CC9A-4AA7-A494-0DCA95BDB40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23BB-56A1-4F73-A12A-1AB899D736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ab’s in Austral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Jack Atkins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xicabs in Australia.</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xi’s were originally horse drawn cabs that wandered around the city. They were most common in Brisbane, Queensland. Brisbane had the first horse drawn taxi in Australia. Even after the motor taxi’s came to Australia in 1906 Brisbane still used the horse drawn taxi until the 1920’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tor Vehicle Taxi’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tor vehicle taxi’s were first in Britain but soon made there way to Australia. Motor taxi’s in Australia were first in Sydney but soon made their way to other places like Queenslan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xicabs in Australia (Continued)</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sbane put a lot of it’s cabs in front of the Parliament House of Brisbane in Alice street, and the Supreme Court of Queenslan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me larger taxi companies had telephone boxes in suburban and city bank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South Wale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tate of New South Wales, has over 6,000 cabs and over 22,700 driv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ew South Wales has the most drivers and cabs in Australi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ensland</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Queensland they had signs on the taxi’s that said “For Hire” on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are in the Yellow Cab Comp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ctoria</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l of the taxis have to be canary yellow.</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3565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The End.</a:t>
            </a: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8:00:23Z</dcterms:created>
  <dc:creator>Classroom/Lab</dc:creator>
  <dc:description/>
  <dc:language>en-US</dc:language>
  <cp:lastModifiedBy>JSEAQUIS</cp:lastModifiedBy>
  <dcterms:modified xsi:type="dcterms:W3CDTF">2010-12-23T16:54:12Z</dcterms:modified>
  <cp:revision>7</cp:revision>
  <dc:subject/>
  <dc:title>Cab Drivers in Australia</dc:title>
</cp:coreProperties>
</file>